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0860E-B076-494A-82EF-8C2C49A96D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0D1CE-CB17-440B-B822-0BD741C23E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ADD35-8A29-437E-9FCE-C1E0D2E44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0311D-6E83-4515-888F-24A3395F67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92919-58E3-4183-A3D0-8AE562AEEB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ABCF5-A97E-4C90-8141-03559948DA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FF19E-5B45-4197-AE62-10C7AFA690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EAF79-A92A-485B-9556-0FC3E25275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E68D1-02B1-49C8-BBFE-617A013652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E73BC-0036-4872-887B-FF64354A59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5C892-B8FC-4F37-B541-417FD6AC68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C0F28-DDCD-4B8A-A7F0-1223B6B69F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77547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65 Generation  PG65 BA, P. Baer   03-09-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4266720" y="65527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A7B40D24-00F5-422E-83E3-046B075A96CD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7722360" y="6519960"/>
            <a:ext cx="11196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dd3a07"/>
                </a:solidFill>
                <a:latin typeface="Arial"/>
              </a:rPr>
              <a:t>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to close the GAP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7080" y="1676520"/>
          <a:ext cx="6959520" cy="4297320"/>
        </p:xfrm>
        <a:graphic>
          <a:graphicData uri="http://schemas.openxmlformats.org/drawingml/2006/table">
            <a:tbl>
              <a:tblPr/>
              <a:tblGrid>
                <a:gridCol w="1258920"/>
                <a:gridCol w="938160"/>
                <a:gridCol w="939600"/>
                <a:gridCol w="965520"/>
                <a:gridCol w="965160"/>
                <a:gridCol w="990360"/>
                <a:gridCol w="901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T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opa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ys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-C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el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73080" y="1114560"/>
            <a:ext cx="459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rovement levers per product and pot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05520" y="6143760"/>
            <a:ext cx="245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high       o mid       -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75760" y="11430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48480" y="1176480"/>
            <a:ext cx="73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49920" y="1463760"/>
            <a:ext cx="73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426440" y="2355840"/>
            <a:ext cx="1717560" cy="3070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tual Sit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426440" y="2874960"/>
            <a:ext cx="1717560" cy="5202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evers to impro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fi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26440" y="3610080"/>
            <a:ext cx="1717560" cy="5202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argets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65 Gen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26440" y="4340160"/>
            <a:ext cx="1717560" cy="5202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43640" y="5541840"/>
            <a:ext cx="11034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ase EB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6680" y="5796000"/>
            <a:ext cx="110340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ependant on sale cjan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0880" y="5824440"/>
            <a:ext cx="110340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6€ already sa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209DA-DF88-4041-B24E-F401404FDD86}" type="slidenum">
              <a:t>1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2T13:52:17Z</dcterms:created>
  <dc:creator>H Fink</dc:creator>
  <dc:description/>
  <dc:language>en-US</dc:language>
  <cp:lastModifiedBy>Siemens-Mitarbeiter</cp:lastModifiedBy>
  <cp:lastPrinted>2002-03-20T19:03:58Z</cp:lastPrinted>
  <dcterms:modified xsi:type="dcterms:W3CDTF">2003-09-25T15:50:16Z</dcterms:modified>
  <cp:revision>502</cp:revision>
  <dc:subject/>
  <dc:title>L55 Barracuda M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uthorEmail">
    <vt:lpwstr>stefanie.kraemer@siemens.com</vt:lpwstr>
  </property>
  <property fmtid="{D5CDD505-2E9C-101B-9397-08002B2CF9AE}" pid="3" name="_AuthorEmailDisplayName">
    <vt:lpwstr>Kraemer Stefanie ICM MP UC CS</vt:lpwstr>
  </property>
  <property fmtid="{D5CDD505-2E9C-101B-9397-08002B2CF9AE}" pid="4" name="_EmailEntryID">
    <vt:lpwstr>000000006BFB1AC7D769D4118E4C00508B656DE207002D8F24094DEFD3118E4800508B656DE20000001DB66F00002C596574BA874846A35C843BA87906D7000000FC8BEC0000</vt:lpwstr>
  </property>
  <property fmtid="{D5CDD505-2E9C-101B-9397-08002B2CF9AE}" pid="5" name="_EmailStoreID">
    <vt:lpwstr>0000000038A1BB1005E5101AA1BB08002B2A56C20000454D534D44422E444C4C00000000000000001B55FA20AA6611CD9BC800AA002FC45A0C0000004D434848394D5041002F6F3D53434E2F6F753D5342534D434848303031452F636E3D526563697069656E74732F636E3D50657465722E4261657200</vt:lpwstr>
  </property>
  <property fmtid="{D5CDD505-2E9C-101B-9397-08002B2CF9AE}" pid="6" name="_EmailSubject">
    <vt:lpwstr>Bitte überarbeiten Sie 'product targets_180903'</vt:lpwstr>
  </property>
  <property fmtid="{D5CDD505-2E9C-101B-9397-08002B2CF9AE}" pid="7" name="_ReviewCycleID">
    <vt:r8>-806922927</vt:r8>
  </property>
  <property fmtid="{D5CDD505-2E9C-101B-9397-08002B2CF9AE}" pid="8" name="_ReviewingToolsShownOnce">
    <vt:lpwstr/>
  </property>
</Properties>
</file>